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APPLAUSE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F05D-AD38-4F17-9D3F-B3C81857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6A0-1FA7-4133-983B-8EF58E24B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900-2529-4946-84A5-7CE5893D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A5E5-43AC-4610-9EA1-32B5544A5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C8E-283C-4D62-B825-1D58F5BF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4C5-48E1-4001-B3F2-70BF955A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4816-A7C0-42F4-A95F-46DFB16E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7311-F2A4-4113-A3B7-FEF040AF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79E-2D31-4D1E-A2B1-39A4758E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2DC-2FD4-4B79-A090-FEAF098C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15F-A8B6-4130-AF8C-42F658A4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7A4-6D9E-4E1C-8B48-54A4FE53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48F4-5BF7-4E94-B31A-7E334DBE5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10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5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1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6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11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16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slide" Target="slide22.xml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slide" Target="slide7.xml"/><Relationship Id="rId34" Type="http://schemas.openxmlformats.org/officeDocument/2006/relationships/image" Target="../media/image2.png"/><Relationship Id="rId35" Type="http://schemas.openxmlformats.org/officeDocument/2006/relationships/image" Target="../media/image1.png"/><Relationship Id="rId36" Type="http://schemas.openxmlformats.org/officeDocument/2006/relationships/slide" Target="slide12.xml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slide" Target="slide17.xml"/><Relationship Id="rId40" Type="http://schemas.openxmlformats.org/officeDocument/2006/relationships/image" Target="../media/image2.png"/><Relationship Id="rId41" Type="http://schemas.openxmlformats.org/officeDocument/2006/relationships/image" Target="../media/image1.png"/><Relationship Id="rId42" Type="http://schemas.openxmlformats.org/officeDocument/2006/relationships/slide" Target="slide23.xml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8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13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image" Target="../media/image2.png"/><Relationship Id="rId70" Type="http://schemas.openxmlformats.org/officeDocument/2006/relationships/image" Target="../media/image1.png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image" Target="../media/image2.png"/><Relationship Id="rId74" Type="http://schemas.openxmlformats.org/officeDocument/2006/relationships/image" Target="../media/image1.png"/><Relationship Id="rId75" Type="http://schemas.openxmlformats.org/officeDocument/2006/relationships/image" Target="../media/image1.png"/><Relationship Id="rId76" Type="http://schemas.openxmlformats.org/officeDocument/2006/relationships/image" Target="../media/image1.png"/><Relationship Id="rId77" Type="http://schemas.openxmlformats.org/officeDocument/2006/relationships/image" Target="../media/image1.png"/><Relationship Id="rId78" Type="http://schemas.openxmlformats.org/officeDocument/2006/relationships/image" Target="../media/image1.png"/><Relationship Id="rId79" Type="http://schemas.openxmlformats.org/officeDocument/2006/relationships/image" Target="../media/image1.png"/><Relationship Id="rId80" Type="http://schemas.openxmlformats.org/officeDocument/2006/relationships/image" Target="../media/image3.jpeg"/><Relationship Id="rId81" Type="http://schemas.openxmlformats.org/officeDocument/2006/relationships/image" Target="../media/image4.png"/><Relationship Id="rId82" Type="http://schemas.openxmlformats.org/officeDocument/2006/relationships/hyperlink" Target="file:///tmp/home/.config/libreoffice/4/user/gallery/APPLAUSE.WAV" TargetMode="External"/><Relationship Id="rId83" Type="http://schemas.openxmlformats.org/officeDocument/2006/relationships/image" Target="../media/image5.png"/><Relationship Id="rId8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only 2 offices that are selected by the electoral colle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potential flaw in the electoral college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election where the electoral college did not make the same choice as the vo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is it determined exactly how many votes a state gets in the electoral colleg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any electoral votes does it take to win an ele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odern U.S. party has generally “liberal” 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modern U.S. political party has generally “conservative” vi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olitical party in the U.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litical party was founded by Anti-federalists as a rival to the Federal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205740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political party challenged the Democrats from the 1820s until the Civil W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United States operates under this type of party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is type of system a dictator is usually in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is type of system, a coalition government is usually in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greatest weakness of a 2-party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nation that uses a multi-party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With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Arial Black"/>
              </a:rPr>
              <a:t>Mr. McGinnis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6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2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700"/>
                            </p:stCondLst>
                            <p:childTnLst>
                              <p:par>
                                <p:cTn id="3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71600" y="295596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al Jeopardy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7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8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4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5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7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8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0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1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3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4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45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6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47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8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0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1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53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4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5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6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7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8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59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0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6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30492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3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4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5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6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7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8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481500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69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0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71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2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73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4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75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76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77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78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79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lectoral Colle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ame that pa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arty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80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1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82"/>
          </p:cNvPr>
          <p:cNvPicPr/>
          <p:nvPr/>
        </p:nvPicPr>
        <p:blipFill>
          <a:blip r:embed="rId83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 must be at least this old to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fore someone can vote, what must they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term for the direct vote of the peop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could a member of the Navy vote if they were out at sea during the ele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182880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demographic characteristic that would make someone more likely to support either the Democrats or Republica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 </cp:lastModifiedBy>
  <dcterms:modified xsi:type="dcterms:W3CDTF">2007-09-06T14:25:49Z</dcterms:modified>
  <cp:revision>45</cp:revision>
  <dc:subject/>
  <dc:title>No Slide Title</dc:title>
</cp:coreProperties>
</file>